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5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5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5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9080-AE97-482B-89DE-12FD20148F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964B-36D6-4701-B3E0-D438837204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41A-EFA8-4819-9EB9-24139E8D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C46-D680-4C12-8BEA-4833745A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C1D32-7FA9-4713-ACEF-1DE0F5F2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1069C-92B0-4A21-AD29-6E63BDDB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C6824-75F3-4D0E-9D7F-E9D527A6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1D5BB-2D42-497A-9987-AC2E2A63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BC4F-9FDE-491B-B1E4-4BF2DED5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E6E0C-C41B-457F-A74C-EBDEAD2F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8FA99-A225-4E3B-9A3F-C5FBE71E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EB730-367D-4E2A-8682-D90611E6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A00D4-3213-44C5-BD61-C384BF78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3C50A-0EE7-432D-BE52-26622ADC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DA4-1BF0-4BAE-B394-F03AB819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F3571-3E3D-478E-BA42-8AC3FD8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71D8F-8C66-4D85-AE26-451AB314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11423-127B-4C0A-8203-30BC9A0B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441B9-A7F0-45E1-8A81-594E0DC4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42D5B-D1DD-4AED-B584-F6C061C2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F009D-73DE-4D8F-AC27-5CF29B13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E0C1C-0F6A-4E96-ACD4-5595590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6B99B-0C41-4813-B8A3-1F9786C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5D049-3DFF-4395-9B37-2E38C5DB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6D27A-BD81-4D57-9E0B-40D0A828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42E-06AE-4AF5-BB42-36E59207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C2355-867A-4D4A-8E55-AA144E3A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0C85F-F11A-4293-B907-8BD7CA39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3F971-646C-4ACB-9F32-70C443BF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983EA-F437-4008-91B0-4D22E007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1E334-9BD3-4ACF-935C-1AB3A073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CC85A-4E17-49FD-BA3C-1605CD1D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DEB2A-195C-4CAD-A719-C7ED3681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AB3BF-AC4D-44DA-84B7-7216038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62A1C-3B8D-45C8-BDCB-0ACACC92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E9E89-63F7-4FB5-A41A-96BBA74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EF92-F9A1-4776-9759-A7882AFD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65F73-72C5-4C87-B5B1-4CD15790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643FD-F089-42A0-A720-22AEBEEF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FD312-22DD-469C-9B95-B62BEDB9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47AF0-4225-46F5-88B0-689F23D8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2FFE8-1237-438F-B08B-BD5FA4DB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E4385-DC8B-4156-8131-F7B9BF4A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D9D06-6411-4F32-A42A-B8CC1496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577B8-5CE7-45B9-B8A8-C971AC3E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9E66D-31BB-4F34-9CF3-6D64E2F2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04443-6544-4D60-B7FB-C4218E84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458F-D666-423A-B14A-C8439717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50EFB-2483-4A7A-BB45-A8500E57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81D08-17FA-489A-951D-E96E6C8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56787-5ED4-4E53-910B-51043167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DE76B-183B-4044-9D59-3305D38F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935A3-7400-4C3C-8982-E37A3DED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EE7C2-F4BE-41F3-A310-77484C11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753B3-A5D1-4618-8C61-8609F2B5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72E72-285E-4386-8CCB-E8CC9F02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22AC5-4EEA-45E4-A389-B401875B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47CE9-A3BF-4291-8EF3-B8520F1B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8355-8343-432D-9D73-5EFF55D4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D689F-E6AF-4E49-9F40-090950B5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A34CE-53EB-4EB7-8068-17A35BE0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9333E-951D-4B1D-BDFB-24DBE7A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B0E0C-3E83-4D4A-9021-7409FC6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E9B61-98BB-4CE2-B52A-064C5E10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38051-C386-4FF8-821F-1763615A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1931C-416E-4495-AA82-7BD25110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0E96B-3954-42EF-B688-84047458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4A471-8899-420B-AE95-703B6F25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6A8B0-F03B-4995-A8A1-6C11431E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B9FF-B349-46DD-8BFD-4C0C6A22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A1214-D57A-40CC-B049-0EEAC033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B68B4-4700-4DFF-B7A0-35205CAA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A5A75-03BF-44CF-8C7A-46F45900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46D41-BBEB-42F0-A411-1561AA5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B2FE4-409D-419C-8637-220C241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97832-D512-49AF-8EAB-D2721053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FC28A-01D9-48B7-9B9E-99B55D25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E0507-9689-4ECB-BB9C-87AD5C72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04D18-740D-437C-AA1A-585FFB2E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3757D-8D9E-4035-B6D8-AD2DB9B7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473A-F23F-4F4C-A5D4-5FFC0840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1770A-A908-4756-9F4B-91064310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8FD0C-DA34-4FB6-8898-A3BEFE08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897E6-E150-49C4-8D75-933CCE2F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4A189-246A-4D1B-9964-20474731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56C3B-30D1-49B8-8BF1-D44EE869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FABB4-139B-4A09-BDFF-B07F60D8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5AC85-BBBA-4973-A772-DF0498B9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30A27-A222-498C-BE27-C5273DC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05C1B-A411-458F-85C7-DCD3DB92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515F2-B8AA-419E-86E7-99C1D248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0229-9995-456A-A741-7542E35D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559ED-66A7-4BB7-8D16-D66FD6A1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7B2CB-B9A8-4127-B2AF-1D8CA194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4CB79-D11B-4588-9DD9-8F99DFFD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4841F-2159-45FD-AC92-AB6A5F4D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EB57C-FF38-4391-88F6-67F1ECA7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5F458-BE36-4CBB-9A0F-2FA60884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B279E5-E15E-43D5-A376-87E44BE1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14F73-20B0-4222-A8C5-0CEAA26B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F9276A-C968-4394-9CA1-43A64FD9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A864A-130A-42E2-841C-9DF6C4BC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0143-CA43-4D03-A5C9-8C8E0A6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85785-A163-4C69-92D7-83DE98EA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991E9-13DF-49CE-AB19-D11C4561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8463F-DA7F-43E4-A1B6-008C69F4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5CC12-9BC6-46CD-831B-67338D77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F593C-E4DA-4472-887A-96954F53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93021-8D2A-4396-A897-46BA870A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4F9DE-DD3B-421C-AF50-3D5E6260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067F2-F3F0-4D0A-A5D0-14586DFD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9598A-D00A-453A-94A0-DC51E923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BF55E-0D13-4805-8D6D-F7DE907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D3C-7306-478D-A802-5825B182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FA4D-3F95-41E6-AD30-163E9DB2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133E0-DF12-4A2B-8795-2472FC5E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B73A7-8186-40E3-9B8D-DBB731D8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90CE35-1B04-4474-B865-783C82E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CF0D2-6173-4869-93F8-E22579E4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E421E-F813-425C-81CF-92CDFE73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74880-9B15-446B-BCDF-B60ADD41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6257CF-4AC8-4512-BBF3-66A3B4A2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B79399-2AA3-4F09-84AE-4475613F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85C7B-2074-4A3C-8148-401BD95D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D59C6-33D3-4059-A83F-535895F8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2858-39ED-42BC-A307-9D59605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BB303-F0CE-4610-8C2F-3717CEFC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CB6FE-5136-4AB8-9E61-660F94AD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88947-8A8E-4799-A3C7-6842D66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1664C-9179-4979-A5AA-42D7682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58A36-2637-41CA-82FE-4A5AA08A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FA8DC0-8FE7-4D0A-A5AB-CBCDB769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ED7FF7-3BF9-46B9-A9C2-0ACBEDE3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4DA0-398E-4530-A796-96186BA2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6F75-AA96-42ED-A051-12EB3220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AF88-F3FF-4659-A494-8E88D2C0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D9CE-6945-4915-87F1-ABFB0224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AA09-ECAC-44E7-8322-D58FB71E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E6F93-A1EF-430E-8D6D-488F3978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5980-2AA1-4965-99DA-1677A38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6621-F6A3-49DB-95BA-CF89DF68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264-F870-4E89-9A28-40D9FC67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4908-5EE9-4611-A4BE-08CB2C12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C9AA-605F-45BC-8700-623FB648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52EE-826A-413C-9D68-196CFCF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EEEB-EBA4-4F94-BE7F-92BAB152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7789-3F62-4582-B3AF-CA71A430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FE444-5FDD-4712-A930-E6F2536B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5A40-48DF-4688-AAC2-BB32B7FD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AB48-EF79-4E5C-86EB-AD96B526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E7E9-169C-49D0-9E34-DC5C2A33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ABC4-0189-4C78-81C8-756F1123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F1A-5666-41C6-96BA-5D75D1F4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C618E-7877-4DD7-904A-1335560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4ADE-5432-443F-92BF-EC308BB6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CC64-3DCE-46AD-BE86-555E6FCE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3F65-2741-4140-9F84-D2D07F41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81CB-967A-4FC5-83A3-8AFD83F9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2D1DB-35B1-496A-9E84-6E70F56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D5CD-4073-4A38-A34C-81889B4A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69B6-4EC1-482E-A461-F07AB37C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3B25-02DC-4930-9B51-EA688D6B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969C3-95EF-4DFE-8FE0-651B4B63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2B6-8D6E-4B18-A9D1-B7818B86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F646-C32C-4AB7-A597-CF0D4115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81C6-91F0-44E5-A237-2C9A1D75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EE79-4DFB-4DE3-A770-4DE3A5B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9CAA7-C117-4522-84DE-937BA8D5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B5AEC-F538-4E8D-903D-1BC98F5F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2D4E2-8723-41FA-8927-C7E953C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8531-00FE-4786-98F8-E2F17FB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28C5E-90B5-4FCF-A97E-D95F78B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B152-AFF7-4049-B3B6-50C1F40F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3C721-B6FE-4B59-9905-2C37BE6A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D13-CCF1-49A3-9F3C-52DF3B4F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50FE8-44B1-443D-A01D-6A83A26C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9252-5B2C-4E9B-98C8-A3538673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81807-0542-4B14-9967-7DAF1496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2965F-51B7-40CA-9E2D-8C74B99B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36B03-30AA-44B8-80FF-8461CE8A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02FE-AF20-40AF-935C-B9ACB22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FE3F-B2CF-4E21-BE88-90181B6C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3DFD6-2339-4E6C-A64C-E2834C0F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7C435-5749-44A0-90AB-3DC52F46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C5E72-6599-47C5-BFEE-C82BBAC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EAD-9EAC-4BC9-8DE4-5FF99298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4EBA2-E040-40F5-9769-7A6DCB28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9F632-848C-43C5-85C1-3B816A07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F503E-99A4-4011-8FC6-525924E9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76DFD-9E68-4129-BC57-2EC8B6CD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C66D4-3F6E-48B8-8925-482BC0D4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AE10-52C1-4E19-A579-838BDA0F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0597C-8CE5-4E7E-8224-A394F9A0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87ADD-BEA8-4B41-968D-E0787FB5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15FA4-0751-401B-A89E-BA107BC5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B615-9A7D-4052-9BB9-DB62AD34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BF1-CFAA-4E9B-9B0E-F7E1D15E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6963F-EDE9-4EE3-9188-8799E97C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33385-4548-44B8-AFFA-C739968E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32130-6449-4F5A-95BC-E143047E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550E4-E9AF-40E4-A623-4E2C1E20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22275-AD7B-47B1-B5A2-5FB87F75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AC708-3AF0-4520-A1B1-9B2CC823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47BFC-6004-426A-A411-744D97A3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FB397-91B8-448C-B945-6F52CBB9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F6EA3-BF4B-4343-AC5A-0EFB64D5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8DE57-C108-4992-8FA6-7D061635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CCF-2346-4341-8DC4-8D9074CA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4E1A8-D033-433D-9147-77221AEF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04622-7A7C-461F-A716-77D4FBA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40E3F-B80F-46CF-8508-3D48A8FF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E12DA-631B-4AD8-8297-A3DDB516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68A11-4827-4FCF-88CB-DEE5A43A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A2E1C-17AB-47CD-BBDF-BE23302F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68BF8-3021-4652-B461-E5FDD017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E2A6F-55B3-4F8E-A3EA-F50B5F42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ADB6C-BCE8-4E66-BF53-D5EF6A3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21711-2CE8-4B6E-A285-CBDADF62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701-47C0-4309-B0B5-5E8A82B2300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9DFD-3480-4E27-8534-EC424BCF3C2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9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DA04-08F5-492A-9A3D-A31905DD3EA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8AE-27C5-4F9B-9A61-2D6ED889F8DA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Box 7"/>
          <p:cNvSpPr/>
          <p:nvPr/>
        </p:nvSpPr>
        <p:spPr>
          <a:xfrm>
            <a:off x="422280" y="71748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8"/>
          <p:cNvSpPr/>
          <p:nvPr/>
        </p:nvSpPr>
        <p:spPr>
          <a:xfrm>
            <a:off x="7736040" y="275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8A3C-72A8-4303-86E1-A779169573F5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DC0F-5269-4444-BDE0-98AFE2AA01E5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2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7"/>
          <p:cNvSpPr/>
          <p:nvPr/>
        </p:nvSpPr>
        <p:spPr>
          <a:xfrm>
            <a:off x="422280" y="71748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736040" y="275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3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4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5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995D-9F3F-40A3-B11D-07DA75DAD11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6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7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8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857E-56E8-42BE-9E89-6247ACCC1C6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9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50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51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BFC7-BADB-4568-AB0C-A7D559D648F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52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53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54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A339-AE0D-497C-AD24-ED1653FE61E8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elestia-R1---OverlayTitleSD.png"/>
          <p:cNvPicPr/>
          <p:nvPr/>
        </p:nvPicPr>
        <p:blipFill>
          <a:blip r:embed="rId3"/>
          <a:stretch/>
        </p:blipFill>
        <p:spPr>
          <a:xfrm>
            <a:off x="0" y="0"/>
            <a:ext cx="739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514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742840" y="5870520"/>
            <a:ext cx="39322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406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3F79-D0EF-48BE-A727-309ED021C295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2C01-3DCA-489D-BF8D-634EBA5AD76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8AB2-3B94-4DCF-A9C9-F7D84B5E5BC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D3B4-A434-46BA-BF4C-712D0FD62B3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FA27-61F7-45E2-8F1F-6CE5A48E36F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8E03-C814-4E9B-B58F-C269FB2B66B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C14D-AB54-4BA3-80F8-7C9456834298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C6D1-A489-4859-84E6-12BD9DC2C3E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3" descr=""/>
          <p:cNvPicPr/>
          <p:nvPr/>
        </p:nvPicPr>
        <p:blipFill>
          <a:blip r:embed="rId1"/>
          <a:stretch/>
        </p:blipFill>
        <p:spPr>
          <a:xfrm>
            <a:off x="1268280" y="1255680"/>
            <a:ext cx="835668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77760" y="1790640"/>
          <a:ext cx="8928000" cy="4208400"/>
        </p:xfrm>
        <a:graphic>
          <a:graphicData uri="http://schemas.openxmlformats.org/drawingml/2006/table">
            <a:tbl>
              <a:tblPr/>
              <a:tblGrid>
                <a:gridCol w="7559640"/>
                <a:gridCol w="268200"/>
                <a:gridCol w="1100160"/>
              </a:tblGrid>
              <a:tr h="73188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я по поправка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измен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401760">
                <a:tc gridSpan="3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НАЯ ЧАСТЬ БЮДЖЕ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812e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ДОХОДОВ ДО ВНЕСЕНИЯ ПОПРА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 10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доходную часть бюджета в части безвозмездных поступлений из бюджета УР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gridSpan="2"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60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доходную часть бюджета на сумму прогнозируемых  к поступлению  налоговых доходов в 202 году (поступления граждан на реализацию проекта инициативного бюджетирования «Наше село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gridSpan="2"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умма поправ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 22 71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ДОХОДОВ ПОСЛЕ ВНЕСЕНИЯ ПОПРАВ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5 81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68" name="Прямоугольник 4"/>
          <p:cNvGrpSpPr/>
          <p:nvPr/>
        </p:nvGrpSpPr>
        <p:grpSpPr>
          <a:xfrm>
            <a:off x="7723080" y="963720"/>
            <a:ext cx="1219320" cy="322200"/>
            <a:chOff x="7723080" y="963720"/>
            <a:chExt cx="1219320" cy="322200"/>
          </a:xfrm>
        </p:grpSpPr>
        <p:pic>
          <p:nvPicPr>
            <p:cNvPr id="769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723080" y="963720"/>
              <a:ext cx="12193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7740720" y="976320"/>
              <a:ext cx="11890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libri"/>
                </a:rPr>
                <a:t>Тыс.руб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Rectangle 2"/>
          <p:cNvSpPr/>
          <p:nvPr/>
        </p:nvSpPr>
        <p:spPr>
          <a:xfrm>
            <a:off x="507960" y="189000"/>
            <a:ext cx="80676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Предложения по поправкам к бюджету 2020 го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2" name=""/>
          <p:cNvGraphicFramePr/>
          <p:nvPr/>
        </p:nvGraphicFramePr>
        <p:xfrm>
          <a:off x="0" y="765000"/>
          <a:ext cx="9180360" cy="5397840"/>
        </p:xfrm>
        <a:graphic>
          <a:graphicData uri="http://schemas.openxmlformats.org/drawingml/2006/table">
            <a:tbl>
              <a:tblPr/>
              <a:tblGrid>
                <a:gridCol w="7899480"/>
                <a:gridCol w="1280880"/>
              </a:tblGrid>
              <a:tr h="40356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НАЯ ЧАСТЬ БЮДЖЕ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812e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РАСХОДОВ ДО ВНЕСЕНИЯ ПОПРА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7 300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79704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ся учесть в  объеме бюджетных ассигнований, расходы бюджета, осуществляемые за счет  безвозмездных поступлений из бюджета УР, имеющих целевое на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2 606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10160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объем бюджетных ассигнований на 2020 год за счет  поступлений от физических и юридических лиц на реализацию проектов местных инициатив "Наше село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3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10016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расходы бюджета 2020 года на сумму 6 305,8 тыс.рублей за счет уменьшения собственных остатков на счете бюджета по состоянию на 1 января 2020 года и направить 949 тыс.руб. на уплату процентов по кредиту (рефинансирование коммерческого кредита), 5 356,8 тыс.руб. на заключение муниципального контракта на оказание услуг финансовой аренды (лизинга) газораспределительных се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6 305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55548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умма поправ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 29 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69084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РАСХОДОВ ПОСЛЕ ВНЕСЕНИЯ ПОПРА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6 316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3" name=""/>
          <p:cNvGraphicFramePr/>
          <p:nvPr/>
        </p:nvGraphicFramePr>
        <p:xfrm>
          <a:off x="324000" y="907920"/>
          <a:ext cx="8640720" cy="3603600"/>
        </p:xfrm>
        <a:graphic>
          <a:graphicData uri="http://schemas.openxmlformats.org/drawingml/2006/table">
            <a:tbl>
              <a:tblPr/>
              <a:tblGrid>
                <a:gridCol w="7127640"/>
                <a:gridCol w="1513080"/>
              </a:tblGrid>
              <a:tr h="149400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ЧНИКИ ФИНАНСИРОВАНИЯ ДЕФИЦИТА БЮДЖЕТ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cd8b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АНС ("-" ДЕФИЦИТ; "+" ПРОФИЦИ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50 49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6836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ение остатков на счете бюджета (собственные остатки на счете бюджета по состоянию на 01.01.202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49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6:47:21Z</dcterms:created>
  <dc:creator>User</dc:creator>
  <dc:description/>
  <dc:language>en-US</dc:language>
  <cp:lastModifiedBy>Жвакина</cp:lastModifiedBy>
  <cp:lastPrinted>2016-11-11T10:35:51Z</cp:lastPrinted>
  <dcterms:modified xsi:type="dcterms:W3CDTF">2020-07-02T13:32:29Z</dcterms:modified>
  <cp:revision>682</cp:revision>
  <dc:subject/>
  <dc:title>Слайд 1</dc:title>
</cp:coreProperties>
</file>